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move the slide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716B6-F142-48AB-AADD-E8B7C571C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E4B6-5F68-4F73-B65A-CE82A4F8903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0260-DEFA-42E1-8ADD-27CB40597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9208-D709-45B8-BB84-324CD1621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52A58-1B5B-41AE-BCB5-D3F4804745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A5D4-097F-4848-957B-DDBD9DE9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BBB93-9B60-4024-B34C-D2C1376BB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5E7A8-57A7-4D6A-912C-F5C24FB3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73DBD-B654-4511-8304-C2A36A350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37DE8-3248-4509-A864-91A39DEEF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471E-38DF-414A-9FD5-EFA6E5F3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E6F23-A7E2-41D2-BCC6-2424480C2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6825-0867-404F-BB03-AFEAD6C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27BE-9588-40C8-9154-E9BF6231A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967A-8786-4A16-B8CC-12475318D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6E44E-4797-4470-87D0-1C868A0B6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9017-3867-4394-90B6-1567C12C2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19B7A-025D-45DA-A334-361FBF649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5DFA2-BC5D-4200-AE94-256DD3351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F35D-30A4-4A60-A9F2-B27975BA7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4EE4-23C8-4525-99C7-D885564D9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37E2-F3A3-4E0B-950C-1D5431FE5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0B89-C50A-4940-9A83-A02AF0C83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7F1-C7A0-4773-99C2-65A3641F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5171E-8082-4E05-8211-750D96E2A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E649-48FF-4E42-B089-080200362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7C923-447F-4554-B228-51C6B1948EEA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A7AA3-48F6-47A9-AEE7-A5D8D46B4F76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thejournal.com/articles/23898_1" TargetMode="External"/><Relationship Id="rId3" Type="http://schemas.openxmlformats.org/officeDocument/2006/relationships/hyperlink" Target="http://educationaltechnology.ca/couros/1603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iki.creativecommons.org/Category:List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oercommons.org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thirteen.org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collegenet.com/elect/app/app" TargetMode="External"/><Relationship Id="rId3" Type="http://schemas.openxmlformats.org/officeDocument/2006/relationships/hyperlink" Target="http://www.e-booksdirectory.com/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journal.code4lib.org/articles/47" TargetMode="External"/><Relationship Id="rId3" Type="http://schemas.openxmlformats.org/officeDocument/2006/relationships/hyperlink" Target="http://skypeinschools.pbworks.com/" TargetMode="External"/><Relationship Id="rId4" Type="http://schemas.openxmlformats.org/officeDocument/2006/relationships/hyperlink" Target="http://www.merrybee.info/truse/unit.html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://digitalbooktalk.com/" TargetMode="External"/><Relationship Id="rId3" Type="http://schemas.openxmlformats.org/officeDocument/2006/relationships/hyperlink" Target="http://bookscreening.com/frequently-asked-questions/" TargetMode="External"/><Relationship Id="rId4" Type="http://schemas.openxmlformats.org/officeDocument/2006/relationships/hyperlink" Target="http://audacity.sourceforge.net/" TargetMode="External"/><Relationship Id="rId5" Type="http://schemas.openxmlformats.org/officeDocument/2006/relationships/hyperlink" Target="http://voicethread.com/" TargetMode="External"/><Relationship Id="rId6" Type="http://schemas.openxmlformats.org/officeDocument/2006/relationships/hyperlink" Target="http://www.truthout.org/052209EDA?n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hyperlink" Target="http://librarymindsactii.wikispaces.com/" TargetMode="External"/><Relationship Id="rId3" Type="http://schemas.openxmlformats.org/officeDocument/2006/relationships/hyperlink" Target="http://webtools4u2use.wikispaces.com/Webtools4U2Use" TargetMode="External"/><Relationship Id="rId4" Type="http://schemas.openxmlformats.org/officeDocument/2006/relationships/hyperlink" Target="http://gettingtrickywithwikis.wikispaces.com/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Title 1" descr=""/>
          <p:cNvPicPr/>
          <p:nvPr/>
        </p:nvPicPr>
        <p:blipFill>
          <a:blip r:embed="rId1"/>
          <a:stretch/>
        </p:blipFill>
        <p:spPr>
          <a:xfrm>
            <a:off x="298440" y="530280"/>
            <a:ext cx="8358120" cy="288936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creativecommons.org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Title 1" descr=""/>
          <p:cNvPicPr/>
          <p:nvPr/>
        </p:nvPicPr>
        <p:blipFill>
          <a:blip r:embed="rId1"/>
          <a:stretch/>
        </p:blipFill>
        <p:spPr>
          <a:xfrm>
            <a:off x="341280" y="268200"/>
            <a:ext cx="8564760" cy="115884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thejournal.com/articles/23898_1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educationaltechnology.ca/couros/1603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http://en.wikipedia.org/wiki/List_of_social_bookmarking_websites#Social_bookmarking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heyjude.wordpress.com/2009/06/07/school-libraries-in-the-21st-century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2"/>
          <p:cNvSpPr/>
          <p:nvPr/>
        </p:nvSpPr>
        <p:spPr>
          <a:xfrm>
            <a:off x="3371400" y="3244680"/>
            <a:ext cx="240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http://66.151.191.157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www.docstyles.com/mlacrib.htm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owl.english.purdue.edu/owl/resource/560/01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Title 1" descr=""/>
          <p:cNvPicPr/>
          <p:nvPr/>
        </p:nvPicPr>
        <p:blipFill>
          <a:blip r:embed="rId1"/>
          <a:stretch/>
        </p:blipFill>
        <p:spPr>
          <a:xfrm>
            <a:off x="450720" y="103320"/>
            <a:ext cx="8242560" cy="14396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iki.creativecommons.org/Category:Lis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oercommons.org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thirteen.org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www.cashcourse.org/okstate/Default.aspx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www.collegenet.com/elect/app/app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ww.e-booksdirectory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librarygarden.blogspot.com/2009/04/v-behaviorurldefaultvml-o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journal.code4lib.org/articles/47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skypeinschools.pbworks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www.merrybee.info/truse/unit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57200" y="16002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digitalbooktalk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bookscreening.com/frequently-asked-questions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audacity.sourceforge.net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5"/>
              </a:rPr>
              <a:t>http://voicethread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6"/>
              </a:rPr>
              <a:t>http://www.truthout.org/052209EDA?n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26960" indent="-3204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2"/>
              </a:rPr>
              <a:t>http://librarymindsactii.wikispaces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3"/>
              </a:rPr>
              <a:t>http://webtools4u2use.wikispaces.com/Webtools4U2Use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410082"/>
                </a:solidFill>
                <a:uFillTx/>
                <a:latin typeface="Book Antiqua"/>
                <a:hlinkClick r:id="rId4"/>
              </a:rPr>
              <a:t>http://gettingtrickywithwikis.wikispaces.com/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Book Antiqua"/>
              </a:rPr>
              <a:t>http://www.virtuallrc.com/content/technology/search_technology_tutorials_links.htm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14:49:27Z</dcterms:created>
  <dc:creator>MaryAnn Hebert</dc:creator>
  <dc:description/>
  <dc:language>en-US</dc:language>
  <cp:lastModifiedBy>MaryAnn Hebert</cp:lastModifiedBy>
  <dcterms:modified xsi:type="dcterms:W3CDTF">2009-10-01T19:17:24Z</dcterms:modified>
  <cp:revision>55</cp:revision>
  <dc:subject/>
  <dc:title>Slide 1</dc:title>
</cp:coreProperties>
</file>